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0D7-DCA3-4B8D-B0EE-F03700BE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882-3368-464E-8951-66378000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634-46E5-45EA-8E82-9D961811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017-C206-470A-9818-BBA0BFDE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DFA-2C48-4281-BDC2-EE1BFE84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3F2-D83F-4E66-B1A2-78292009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CED-0B47-4051-A71E-0F3DBE5B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A5A-DD2E-4173-8321-89949924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50E-FCE6-4B9D-8134-AAA214C5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17B-5AC8-4518-AC48-19CC1518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A84-1148-47FA-8D10-8AD48CA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F1B-BC91-4398-9CB5-F2D7681C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5EC7-AC24-4B93-AB64-BFF927D3EF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1371600"/>
            <a:ext cx="699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ue t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appropri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hoice of Contro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579132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281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391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391520" cy="142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7238880" cy="312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6095880"/>
            <a:ext cx="1447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7315200" cy="184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7315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19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723888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43000" y="365760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43000" y="4724280"/>
            <a:ext cx="7238880" cy="1689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34320" y="4419720"/>
            <a:ext cx="14475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2651040"/>
            <a:ext cx="7239240" cy="321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39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238880" cy="949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238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3706920" cy="4871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5053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23888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23888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143000" y="4114800"/>
            <a:ext cx="7238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7239240" cy="94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7239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327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2666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657600" cy="449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54380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543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221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010280" y="34290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77320" cy="221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010280" y="27432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8077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4:15Z</dcterms:modified>
  <cp:revision>212</cp:revision>
  <dc:subject/>
  <dc:title>Slide 1</dc:title>
</cp:coreProperties>
</file>